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7394-FAB9-41E0-B680-8070B45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5C37-47F7-446E-9798-CB6E50E5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29AB-46DF-4E1A-BBE7-5088239F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C4B0-FD2D-4A4F-BABD-9A0989AF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B4F5-CA9C-4405-AD32-9B02416D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086B-0543-4E0A-9860-50A7D4E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A25-1D26-4DCD-B9B0-BA0849C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9BA8-B230-4527-BEED-35E5BC0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BBEE-BDCB-4E46-A1D6-774ECBC8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0B01-2DF0-433B-A16E-DDB79EB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85CC-7B94-41BC-B84F-AA7DE20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E07C-D899-49D3-8DD5-66ACB07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B46-5F0E-4834-913F-A63398E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62A-A4AE-48FE-8801-EE8B6AA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A1D-DA3D-485E-BF65-F748FAC4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C85C-7DEB-4391-8E87-3ACBFA45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BF6A-8D8D-482C-8280-F2AED96E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0EBA-E47C-4968-939D-8113A8EC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47F8-824F-446A-953C-DCB5AD74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8E16-DFFD-44D9-9EEB-0C40452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FFED-C9CD-43A5-9D09-DB1290A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0F9D-51E6-45F0-A08C-D12977A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C277-54ED-4871-853C-E021017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D4E-58F7-4769-9ED1-2FA32AC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822-CBB2-4B1A-B48E-18A1F0B5B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2B94-DF3F-4E8F-B8A7-FE354DE61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Les Etoiles Filantes</a:t>
            </a:r>
            <a:br>
              <a:rPr sz="54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Les Cowboys Fringant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no Vanden 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830160" y="1600200"/>
            <a:ext cx="3291120" cy="21906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1606320" cy="2190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2679840" y="4448160"/>
            <a:ext cx="40892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l faut que vous ecoutiez a les mots pour le sens de la chanson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Que croyes-vous est le sens de le chanson?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165320" y="1981080"/>
            <a:ext cx="68119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0.33294 L 3.33333E-006 3.64162E-006 E">
                                      <p:cBhvr>
                                        <p:cTn id="14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Je pense qu'il est au sujet d'un homme qui a perdrions la femme qu'il aime une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165320" y="2209680"/>
            <a:ext cx="681192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mble-t-il que les Cowboys Fringants a tres, tres bizarr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165320" y="1600200"/>
            <a:ext cx="6811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ui c’est un garcon avec une brasero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165320" y="1600200"/>
            <a:ext cx="6811920" cy="45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 il n’usage pas une soutien-gorge, le femme s’adorais. Mais une jupe n’est pas meilleur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043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i vous ecoutera le music de les Cowboys Fringants, vous sera tres joyeuses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l est essential que vous ecoutiez autre chansons de les cowboys Fringants, je pense que vous les voudrai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66688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3:51:43Z</dcterms:created>
  <dc:creator>Preferred Customer</dc:creator>
  <dc:description/>
  <dc:language>en-US</dc:language>
  <cp:lastModifiedBy>Preferred Customer</cp:lastModifiedBy>
  <dcterms:modified xsi:type="dcterms:W3CDTF">2007-01-09T01:59:21Z</dcterms:modified>
  <cp:revision>1</cp:revision>
  <dc:subject/>
  <dc:title>Les Etoiles Filantes Les Cowboys Fringants</dc:title>
</cp:coreProperties>
</file>